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4FFC-AB22-46EF-9F1E-FF4CAB5D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9305-5C3E-4192-9AE1-FA458BE1E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2EA-3B4D-415E-BA84-8AD5BE64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C68-B47B-4BA2-9678-268ED88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5C8-7454-4B50-9F21-16B276F9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720-C171-47E1-9E00-DD7C7240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6BF4-B830-4AD6-BEAB-200117D0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3D4A-C560-4D55-BDB2-3DF734B4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1C39-8FD0-4C7B-96D7-CA4A4A06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8510-84EA-493F-9EFA-0F8F3461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4BDD-4404-45DD-9526-551AFADA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4198-6AEF-4A59-A72A-DA4AC49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F9EA-F408-402A-801B-63A95CC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458-8412-4510-980B-57A1FFBE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61B-0CA8-4D8B-91AA-C7AD8536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77F7-98D3-4B17-9ABF-3A943AC2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652-3AFB-46C3-B116-D80DEDEF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CC7E-1EBC-4D12-AE89-3C075B9F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3CA7-D6EC-40F2-9A08-B6132D42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83678-5A74-4DA8-B324-2533B894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3A949-98AF-448A-9A4C-28A2F6F7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43AAC-418A-450F-BF3F-3ED35B65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4A554-8EA9-46BD-845C-90FE6A76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5E06C-A8E2-4D00-9E44-EECBCA2E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7E2-3A08-4B88-8D7C-0A9F71C3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25140-F924-4505-9E2C-17B20120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9483A-72A6-41EE-BBCB-22417CE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40C1C-D571-409E-83D8-90D1F28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70A60-DA35-43C2-907C-DEA8634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23033-C2B2-4351-AADA-8E404F6D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6CC03-E3E2-4E4B-BD44-1A85CAB8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1F4A8-76BF-4530-AE68-8436BD05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C9CB-89FB-48F5-99F5-46F1F1AA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4BC2-CDB7-4718-9A78-EC77B2EA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FFE6-3E88-4BF0-AC9D-2B3AB701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1BA-49D9-4BD6-B33F-BE61DAD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0147-E115-4FC7-ADD9-93817DB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D080-6104-4E34-930F-BAD8E6A9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992C-334B-4B5C-A2BC-1F56FF2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6C99B-E9DB-4EA2-8BEF-E21B9AB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7FC1-090F-4447-B145-8D4CEE50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D198-15E9-4DC9-8650-9902F20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3976E-B40D-4B3B-9850-AEA093D5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C3CA-CCEC-450E-9BE3-5104E0F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992A-CA69-4270-B8E4-E53F1332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3A7-EA6B-472F-892C-527C77F9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586-4985-4B16-A1F1-54A9E846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0AB-C44A-450E-801D-01ADDAD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F2B-386F-4CE4-BF21-CC4FE60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1E0-5DD3-4497-9142-C94C075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A46C-6466-47E0-81DA-0ADCAFE628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da1f2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666E-DA0B-41F4-8361-A4BE9A8D57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4F91-7B79-4797-9158-DF1BA615C3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DDD-CC9B-47A2-96D5-FF8A0035F9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25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A Marxist Critical Lens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“All people are born alike – except republicans and democrats.” – Groucho Marx </a:t>
            </a: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4952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eorgia"/>
              </a:rPr>
              <a:t>By Kate Munsell, Natalie Gill, Kelly Cannon and Erin T Goo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603840" y="4419720"/>
            <a:ext cx="22352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Join the Party!</a:t>
            </a:r>
            <a:br>
              <a:rPr sz="3200"/>
            </a:br>
            <a:r>
              <a:rPr b="0" lang="en-US" sz="2000" spc="-1" strike="noStrike">
                <a:solidFill>
                  <a:srgbClr val="da1f28"/>
                </a:solidFill>
                <a:latin typeface="Baskerville Old Face"/>
              </a:rPr>
              <a:t> definition</a:t>
            </a: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Based on the ideas of Karl Marx and Friedrich Enge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Political tendency and social content of litera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Emphasize the role of clas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Reflects, propagates, challenges the prevailing social ord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c0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52280" y="613584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No book is genuinely free from political bias. The opinion that art should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nothing to do with politics is itself a political attitude.” George Or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Ask a Marxist!</a:t>
            </a:r>
            <a:br>
              <a:rPr sz="3200"/>
            </a:br>
            <a:r>
              <a:rPr b="0" lang="en-US" sz="2000" spc="-1" strike="noStrike">
                <a:solidFill>
                  <a:srgbClr val="ff0000"/>
                </a:solidFill>
                <a:latin typeface="Baskerville Old Face"/>
              </a:rPr>
              <a:t>pose questions</a:t>
            </a:r>
            <a:br>
              <a:rPr sz="3600"/>
            </a:b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5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Domination and Oppression of Subordinate class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askerville Old Face"/>
              </a:rPr>
              <a:t>Does the text reflect or resist a dominant ideology? Does it do both?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askerville Old Face"/>
              </a:rPr>
              <a:t>Does the main character in a narrative affirm or resist bourgeoisie values?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askerville Old Face"/>
              </a:rPr>
              <a:t>Whose story gets told in the text? Are lower economic groups ignored or devalued?</a:t>
            </a:r>
            <a:r>
              <a:rPr b="0" lang="en-US" sz="1600" spc="-1" strike="noStrike">
                <a:solidFill>
                  <a:srgbClr val="464646"/>
                </a:solidFill>
                <a:latin typeface="Baskerville Old Face"/>
              </a:rPr>
              <a:t> 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askerville Old Face"/>
              </a:rPr>
              <a:t>Are values that support the dominant economic group given privilege? 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Look at the conditions of production for the work of art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askerville Old Face"/>
              </a:rPr>
              <a:t>What were the economic conditions for publication of work?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askerville Old Face"/>
              </a:rPr>
              <a:t>Who was the audience? What does the text suggest about the values of this audience?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c0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228600" y="5943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History calls those men the greatest who have ennobled themselves by working for the common good; experience acclaims as happiest the man who has made the greatest number of people happy.” – Karl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For the People!</a:t>
            </a:r>
            <a:br>
              <a:rPr sz="3200"/>
            </a:br>
            <a:r>
              <a:rPr b="0" lang="en-US" sz="2000" spc="-1" strike="noStrike">
                <a:solidFill>
                  <a:srgbClr val="da1f28"/>
                </a:solidFill>
                <a:latin typeface="Baskerville Old Face"/>
              </a:rPr>
              <a:t>advantages</a:t>
            </a: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eorgia"/>
              </a:rPr>
              <a:t>Compares societies in literature to those in real lif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eorgia"/>
              </a:rPr>
              <a:t>In a historical context, can give insight to the ideals and practices of past socie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eorgia"/>
              </a:rPr>
              <a:t>Allows the reader to develop own opinions about the role of government in socie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c0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228600" y="6248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Reason has always existed, but not always in a reasonable form.” Karl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Destroy the People!</a:t>
            </a:r>
            <a:br>
              <a:rPr sz="3200"/>
            </a:br>
            <a:r>
              <a:rPr b="0" lang="en-US" sz="2000" spc="-1" strike="noStrike">
                <a:solidFill>
                  <a:srgbClr val="da1f28"/>
                </a:solidFill>
                <a:latin typeface="Baskerville Old Face"/>
              </a:rPr>
              <a:t>disadvantages</a:t>
            </a: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Misinterpreting the author’s mess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Not acknowledging other lenses exi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Analysis is too narr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c0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0" y="60102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slave frees himself when, of all the relations of private property, he abolishes only the relation of slavery and thereby becomes a proletarian; the proletarian can free himself only by abolishing private property in general.” – Frederick En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With this Sickle and this Hammer!</a:t>
            </a:r>
            <a:br>
              <a:rPr sz="3200"/>
            </a:br>
            <a:r>
              <a:rPr b="0" lang="en-US" sz="2000" spc="-1" strike="noStrike">
                <a:solidFill>
                  <a:srgbClr val="da1f28"/>
                </a:solidFill>
                <a:latin typeface="Baskerville Old Face"/>
              </a:rPr>
              <a:t> Marxism in other classes</a:t>
            </a: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00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Marxism in Sociology Clas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Theories of social change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Conflict between social classes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Theory of Revolution- workers alienated, solution- labor union and political parties (gain control over bourgeoisies) 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Behavior due to social class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Viewing biases in historical documents 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Marxist lens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Understanding concepts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c0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0" y="613584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Society does not consist of individuals, but expresses the sum of interrelations, the relations within which these individuals stand.” – Karl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You Say You Want a Revolution!</a:t>
            </a:r>
            <a:br>
              <a:rPr sz="3200"/>
            </a:br>
            <a:r>
              <a:rPr b="0" lang="en-US" sz="2000" spc="-1" strike="noStrike">
                <a:solidFill>
                  <a:srgbClr val="da1f28"/>
                </a:solidFill>
                <a:latin typeface="Baskerville Old Face"/>
              </a:rPr>
              <a:t>literature</a:t>
            </a: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2209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To Kill a Mockingbird: Harper Le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Social and justice equality ignored: Tom Robinson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The Awakening: Kate Chopi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Gender inequality parallels social inequality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Oppression of women (in higher classes, ironically)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Man expected to be successful 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Baskerville Old Face"/>
              </a:rPr>
              <a:t>Lord of the Fl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Baskerville Old Face"/>
              </a:rPr>
              <a:t>Primitive social order decided who would live and who would die</a:t>
            </a:r>
            <a:endParaRPr b="0" lang="en-US" sz="1600" spc="-1" strike="noStrike">
              <a:solidFill>
                <a:srgbClr val="da1f28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c0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228600" y="613584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While the miser is merely a capitalist gone mad, the capitalist is a rational mis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- Karl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How Can We Use This?</a:t>
            </a:r>
            <a:br>
              <a:rPr sz="3200"/>
            </a:br>
            <a:r>
              <a:rPr b="0" lang="en-US" sz="2000" spc="-1" strike="noStrike">
                <a:solidFill>
                  <a:srgbClr val="da1f28"/>
                </a:solidFill>
                <a:latin typeface="Baskerville Old Face"/>
              </a:rPr>
              <a:t>application</a:t>
            </a:r>
            <a:endParaRPr b="0" lang="en-US" sz="2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7524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How do the characters interact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Can you spot a class system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How do the characters spend their free time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What role does the government play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464646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Do the research! Learn from exampl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7" descr="http://images.amazon.com/images/P/0520032438.01.LZZZZZZZ.jpg"/>
          <p:cNvPicPr/>
          <p:nvPr/>
        </p:nvPicPr>
        <p:blipFill>
          <a:blip r:embed="rId1"/>
          <a:stretch/>
        </p:blipFill>
        <p:spPr>
          <a:xfrm>
            <a:off x="5410080" y="1752480"/>
            <a:ext cx="2819520" cy="41864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c0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371600" y="6324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Marxism and Literary Criticism  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By Terry Eagl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04920" y="685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Baskerville Old Face"/>
              </a:rPr>
              <a:t>Works 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09480" y="1600200"/>
            <a:ext cx="754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eHow Contributing Writer, . "How to use Marxist Literary 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Criticism." </a:t>
            </a:r>
            <a:r>
              <a:rPr b="0" i="1" lang="en-US" sz="1800" spc="-1" strike="noStrike">
                <a:solidFill>
                  <a:srgbClr val="464646"/>
                </a:solidFill>
                <a:latin typeface="Baskerville Old Face"/>
              </a:rPr>
              <a:t>eHow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. 2009. eHow, Inc. , 21 Sep 2009. Web. 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&lt;http://www.ehow.com/how_2071684_use-marxist-literary-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criticism.html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http://www1.assumption.edu/users/ady/HHGateway/Gateway/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Marxistlitcr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http://bcs.bedfordstmartins.com/virtualit/poetry/critical_define/crit_marx.h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Baskerville Old Face"/>
              </a:rPr>
              <a:t>http://en.wikipedia.org/wiki/Marxist_literary_critic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7:47:45Z</dcterms:created>
  <dc:creator>ngill</dc:creator>
  <dc:description/>
  <dc:language>en-US</dc:language>
  <cp:lastModifiedBy>kmunsell</cp:lastModifiedBy>
  <dcterms:modified xsi:type="dcterms:W3CDTF">2009-09-23T18:09:25Z</dcterms:modified>
  <cp:revision>46</cp:revision>
  <dc:subject/>
  <dc:title>A Marxist Critical Lens </dc:title>
</cp:coreProperties>
</file>